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72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34"/>
          </p:nvPr>
        </p:nvSpPr>
        <p:spPr>
          <a:xfrm>
            <a:off x="389268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2387160" y="744120"/>
            <a:ext cx="209556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5"/>
          </p:nvPr>
        </p:nvSpPr>
        <p:spPr>
          <a:xfrm>
            <a:off x="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6"/>
          </p:nvPr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610B-A9D1-4CA8-85A0-5C9F1F90CA0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387520" y="744480"/>
            <a:ext cx="209556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スライド番号プレースホルダ 3"/>
          <p:cNvSpPr/>
          <p:nvPr/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C700-26D6-4220-9B78-A6E19D9B24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13B66-E4A8-45C3-B44D-AD81F022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162B5-A730-4AB4-8937-A656BCA9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6D7BD-001D-45CA-98DA-6F9566F0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FC40-6C53-48C7-B8CF-8C94FDE6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42ECC-96F1-402E-BCEE-B9F55A63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D833-5E9A-46F8-8261-04A2749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D4237-372A-4E5C-A590-2D457B68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2FB04-7CF6-489F-A114-255D1904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6B7AE-9B47-45AF-AA23-6AE3661C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04828-893C-4AD4-A2ED-156064D1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757F5-A120-4DB5-B2DF-D025FC14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9ECC9-338E-4A01-A2BB-06BF65CB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D626B-6402-48A8-8E4F-751930E9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C66F3-0BC0-4C17-B17D-9B5270DA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0B2F8-F227-445D-BED3-608D05EC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ADB63-A7FC-48D7-9E67-B0520F27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A0246-A548-4B54-B5CB-CD3A297B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BE6F6-B3F6-475B-8C33-9315B7E2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ECB74-0B03-49DB-8203-9BA0D269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8F84B-7EB0-41A0-8ACA-6AB70514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9DD57-94AE-48B1-9618-2A998208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6DF67-4FBE-484B-A4B5-604C6DB2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5F502-C5DE-4628-BE7E-5C0E6327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07E64-570A-4883-A38D-835C94FB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D54C8-F80D-409E-9D43-5569A60C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A100E-AA00-4676-A408-4FEE5174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ABE95-8FA6-45E0-A16D-ED019F4F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8AB4C-70C8-4BFC-A2C1-8437F30F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586D1-4700-4E2A-98E9-D3206A5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C34F2-3B35-40A1-9377-4402753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33A-951E-4C99-9582-5122F1F7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FC39F-FFC9-454D-A5AD-D4A063F2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4246E-C7EC-491E-AECF-17C20876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12AE9-D1FE-462D-A9CC-52DB860E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9EAB0-704A-46FC-BB34-20207F04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74975-7E89-41B2-A30F-B68162D2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92C37-91A2-437A-84C3-7E5A6F05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540F5-2251-4BDE-B769-4AAD6E16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A45EA-E9DE-466B-8C23-8369190A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CB4E8-B4AD-420F-8E8D-318508C4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2ECAC-69A8-4FC4-993A-00202D3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9A4-0808-4001-B07E-CC6DE597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343AD-E512-450F-ADDB-35A900DA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3B9B4-F949-4D37-AA3C-06A23DA4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200FC-C2E0-4D55-BFF3-115CE121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55CB2-5C92-4A36-B79E-BE58CFCE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1A2F4-0448-40FB-9B31-EC964AC4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E62-3EE2-48BC-96FA-BB72935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D39-D199-43DD-BAFD-C1A51041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21C-E686-47EE-A0F5-4656C2DD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0C8-36C1-4910-B218-A0965291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331-D373-4E6B-A420-94F98336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57D-439A-443C-B45B-E262F9F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983-C2CD-42F2-8357-DC71CD05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8E1-AE89-4A22-941D-4A491DA9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6DF-3538-4BA9-803D-5AE3C714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446-8F7A-4439-85C9-760AE9AC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8D22-8351-43CA-91BF-8A26B580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A603-481E-4C17-999B-55A9AF05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D03B-D2F5-4A66-8140-8B7B415E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4E2E-AEB4-43EA-8A62-062E70EF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E377-2BB3-4B15-850F-4C6BD614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3C7A-3FEA-4A7D-A348-1711EB85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EBDA-0107-4E2C-9C49-895085EA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D2F6-3921-4F6C-94C4-C6AF763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020-AF95-4FA3-A19F-9C53682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64CE-7EB3-4809-9D7A-918DF9A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B484-E77E-415C-AB4D-27073973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54D6-DF85-4093-9ADF-6F75552F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3679-D540-424B-B74F-D308CECA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F404-5CF4-4046-8D91-E97A614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FCD6-21DE-449D-82D8-E4C7424F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0422-642D-4BB1-BEB2-A0A537C7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124B4-E8BC-40FA-B1E3-79DD2132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5F03-A7D1-4C01-BCBF-AB6F06F3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78C8-FC82-4030-9768-19FB3E81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FD9B-88D5-4248-884A-EA6DC05D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534D-0D4C-42B2-970D-5A733874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4539-DE99-433E-8908-8DF7B33F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939C6-7026-4F7E-AA73-69704814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A576-C573-4747-A00E-4178183C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94D7-512E-4591-89EC-28F81073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88A1-271F-4EF1-ABDA-F6635914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7EAA6-2ACF-42BE-8E9D-BB7D0E57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A1E31-A422-499B-B719-19694EAA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C6CD-AA85-441E-B6EE-BFE5CE35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9021-D424-4C5D-A2D0-7E855A15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FD5A-4C5C-4C2E-BB58-34B4AA1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89BDE-55DA-41C0-8851-2553CF07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E49FC-5DFA-43BA-AD7F-B7C616AF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5085-A706-4F15-9E91-89506831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D2DA-D371-4C71-B6E3-BA8F729A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E1F19-27F3-4D76-B306-F68B2A84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9F0D7-F025-4077-B4D5-5E0DD5B3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6C183-2151-4A05-98B3-F6E33FD3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5B50E-2213-49FD-AB0E-D30A8235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51C2-3424-4CBD-A416-BEE7F9A1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9E73-C3DB-4F8D-9ABA-8B36067B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908C-23D5-4CD0-8EDC-5E7739CF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77F8-8524-4065-9F08-2938947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3AD5A-0DA1-42F6-A964-D08F66B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2ECB-8496-43D7-93C5-12BBD402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B0EB9-2347-41DE-AA47-094A6241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FCEB-67A0-486A-AF3C-E2F1650D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5754-F71E-4681-A8EE-2EF0E0BE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C1D37-362D-42D9-95C2-8A30DA2A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76022-16AC-40B3-B2C6-91351751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116C7-D9F3-476C-8926-C6B65BB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98309-BAF0-432D-BCCF-4EBA071D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C875E-082E-470D-A25A-09F71C7F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627D1-107D-4C85-9FBF-D0288DA9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EDB7-9786-4202-B884-50639FDB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10C0-9A70-4EB1-840B-914B898A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E6065-A4A6-4464-B148-D28D122B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FA71A-C4DD-4F87-B31D-A2DB27D9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7818-5914-40DA-843D-F22ED214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8925D-ADC1-4E33-97AB-52D678B3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5E237-BBED-40B9-B2AB-76F71D66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662D8-653F-4E25-BED9-9CEB8B43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E3BF-1169-412F-8C45-13D673E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41BB4-369E-4D21-966E-CD0FAB5F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6DC2-6566-464D-849B-6CCAC7B6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783CC-D37C-4F6B-AFF3-F34D6815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BC3DF-2D2A-4EC7-96EE-686AF467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ECEF-679B-4769-B6D4-7698190A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5DFB0-BC80-44B3-97A1-6E821523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8CE29-6AD6-44F2-A74B-4FBF4EE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501F-09CB-49F1-AB10-FA0F7DBD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22942-211C-47A9-8C40-0C529BF8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84C9-A995-48F2-B433-E9625740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E1DEB-CA57-469F-8864-C795C37D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A983C-5FFA-42DC-97B3-6538E896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BA32-C0DF-46E6-B31B-643C3AC9846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BE92-EEDF-4F5E-B6F9-0A60D47E227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EF26-0105-4959-9D5D-B24D4658D47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CAF5-0178-4F88-8FB0-5321E1F5E49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4B4A-D3E8-49A0-AC9B-C82B9CA7C4C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9840-B3EE-430A-80A3-A287374EA4F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CD04-60C4-413D-9B8E-99E75BD6929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813-1350-4BA7-954A-C7D9154FECF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154-BCDC-4E2F-815E-27F2177ED94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セミナー縦_bg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3AB6-2DBF-4FD7-AA6F-CE9BEFF6C02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72B5-163C-4A58-8C5E-35B6D6F072A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テキスト ボックス 13"/>
          <p:cNvSpPr/>
          <p:nvPr/>
        </p:nvSpPr>
        <p:spPr>
          <a:xfrm>
            <a:off x="1387440" y="114300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テキスト ボックス 15"/>
          <p:cNvSpPr/>
          <p:nvPr/>
        </p:nvSpPr>
        <p:spPr>
          <a:xfrm>
            <a:off x="592200" y="171561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0"/>
          <p:cNvSpPr/>
          <p:nvPr/>
        </p:nvSpPr>
        <p:spPr>
          <a:xfrm>
            <a:off x="2984400" y="144525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20"/>
          <p:cNvSpPr/>
          <p:nvPr/>
        </p:nvSpPr>
        <p:spPr>
          <a:xfrm>
            <a:off x="2984400" y="13684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図 25" descr="セミナー縦_パーツ2.png"/>
          <p:cNvPicPr/>
          <p:nvPr/>
        </p:nvPicPr>
        <p:blipFill>
          <a:blip r:embed="rId1"/>
          <a:stretch/>
        </p:blipFill>
        <p:spPr>
          <a:xfrm>
            <a:off x="1087560" y="29988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483" name="図 26" descr="セミナー縦_パーツ3.png"/>
          <p:cNvPicPr/>
          <p:nvPr/>
        </p:nvPicPr>
        <p:blipFill>
          <a:blip r:embed="rId2"/>
          <a:stretch/>
        </p:blipFill>
        <p:spPr>
          <a:xfrm>
            <a:off x="1414440" y="1368432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図 27" descr="セミナー縦_パーツ4.png"/>
          <p:cNvPicPr/>
          <p:nvPr/>
        </p:nvPicPr>
        <p:blipFill>
          <a:blip r:embed="rId3"/>
          <a:stretch/>
        </p:blipFill>
        <p:spPr>
          <a:xfrm>
            <a:off x="1414440" y="144763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図 28" descr="セミナー縦_パーツ5.png"/>
          <p:cNvPicPr/>
          <p:nvPr/>
        </p:nvPicPr>
        <p:blipFill>
          <a:blip r:embed="rId4"/>
          <a:stretch/>
        </p:blipFill>
        <p:spPr>
          <a:xfrm>
            <a:off x="1414440" y="151956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正方形/長方形 18"/>
          <p:cNvSpPr/>
          <p:nvPr/>
        </p:nvSpPr>
        <p:spPr>
          <a:xfrm>
            <a:off x="1639080" y="10745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正方形/長方形 29"/>
          <p:cNvSpPr/>
          <p:nvPr/>
        </p:nvSpPr>
        <p:spPr>
          <a:xfrm>
            <a:off x="2066760" y="31878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30"/>
          <p:cNvSpPr/>
          <p:nvPr/>
        </p:nvSpPr>
        <p:spPr>
          <a:xfrm>
            <a:off x="2984400" y="1524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図 22" descr="インフォメーション_title.png"/>
          <p:cNvPicPr/>
          <p:nvPr/>
        </p:nvPicPr>
        <p:blipFill>
          <a:blip r:embed="rId5"/>
          <a:stretch/>
        </p:blipFill>
        <p:spPr>
          <a:xfrm>
            <a:off x="2265480" y="351000"/>
            <a:ext cx="5903640" cy="1714320"/>
          </a:xfrm>
          <a:prstGeom prst="rect">
            <a:avLst/>
          </a:prstGeom>
          <a:ln w="0">
            <a:noFill/>
          </a:ln>
        </p:spPr>
      </p:pic>
      <p:pic>
        <p:nvPicPr>
          <p:cNvPr id="490" name="図 23" descr="あたり用写真.jpg"/>
          <p:cNvPicPr/>
          <p:nvPr/>
        </p:nvPicPr>
        <p:blipFill>
          <a:blip r:embed="rId6"/>
          <a:stretch/>
        </p:blipFill>
        <p:spPr>
          <a:xfrm>
            <a:off x="1450800" y="4797360"/>
            <a:ext cx="7388280" cy="559584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24"/>
          <p:cNvSpPr/>
          <p:nvPr/>
        </p:nvSpPr>
        <p:spPr>
          <a:xfrm>
            <a:off x="1400040" y="137556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25"/>
          <p:cNvSpPr/>
          <p:nvPr/>
        </p:nvSpPr>
        <p:spPr>
          <a:xfrm>
            <a:off x="1400040" y="14524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6"/>
          <p:cNvSpPr/>
          <p:nvPr/>
        </p:nvSpPr>
        <p:spPr>
          <a:xfrm>
            <a:off x="1400040" y="15268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16Z</dcterms:modified>
  <cp:revision>88</cp:revision>
  <dc:subject/>
  <dc:title>スライド 1</dc:title>
</cp:coreProperties>
</file>